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5D93-4F63-4F3A-86E2-C1F60F0DD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B0B7-4931-4742-B6BB-49F0C33E1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E05A-886A-4965-BC3C-668C92AE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1B23-FD49-411F-A58A-6E467E06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D0EF-5636-49D4-9CFE-595EA1B3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8EE-03C7-44B5-8622-5355F2D7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6CD-69FE-42BC-8E1A-334BFAA8B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41A-6DFD-4A79-9FB2-BB114420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4D9A-3593-4C32-9434-6FE60B8B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DF62-FDA7-4BAE-8C76-1D3B65B8E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0AA9-2943-4885-B276-526462BD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4697-B501-4141-B8C4-66A559ECC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159C-40E3-4952-A55B-36EFFA417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FF4-1DDD-4929-812D-0BDEDE9D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A5AE-A606-414E-87B6-FBB0FB28F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EDA-56D4-4F79-949B-69ECE80FC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9159-02CB-48E6-829E-AD0363494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D344-1465-497D-91EA-CFABAC05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AC6-4F02-4C2B-ABBC-B136EC05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DDC5-8790-41D6-8D80-74A1B0F2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3D8C-9D3F-48C8-A140-FA98FF876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45A6-1EC5-4677-99D2-1A79A942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08D-941A-4D5F-B952-83FA2936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724-6359-458D-877F-F739D673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D49-C6E5-44CE-B361-37B2E9354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C043-9A3F-4B9C-90E6-385A15654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BFBB-C03D-4563-9B1A-63CAE4D64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DFD-AB0F-426E-98D4-BAE8BE36A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C901-D29E-4C0F-93B1-6E9D19DBA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3971-683C-4AC7-9AA2-5B4CE0B8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FA8F-DFC8-4B6B-98F7-9F4137EE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9437-6076-415B-A677-D81D4385D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7F6-EE0D-48A9-BB2A-EE40A0F1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B7F-41C6-458C-A495-02A64F20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939-54D3-47B5-A28E-9B797FA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765-BFEA-493A-BFB3-FD055F10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35F-E07F-450C-B49E-3C5E72B3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7EE-529A-47C7-A7E1-E9A7B5E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4A0-95AE-4147-946B-609E88C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019-73B6-4005-ADBB-963FA2BD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75E-B0C0-44E2-B0A6-59D926F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B3D-1FC5-4908-86B7-C9F2CAA7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572-E5DA-4703-90DB-5655A44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F3A-D3A9-49ED-8BD1-2D5C521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1A8-509A-4D81-AD52-9FB6172F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159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FD4-5705-4901-99B9-2921C19678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11346.jpg"/>
          <p:cNvPicPr/>
          <p:nvPr/>
        </p:nvPicPr>
        <p:blipFill>
          <a:blip r:embed="rId3"/>
          <a:stretch/>
        </p:blipFill>
        <p:spPr>
          <a:xfrm>
            <a:off x="7086600" y="4952880"/>
            <a:ext cx="1905120" cy="179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15968"/>
                </a:solidFill>
                <a:latin typeface="Calibri"/>
              </a:rPr>
              <a:t>Careers </a:t>
            </a:r>
            <a:br>
              <a:rPr sz="8000"/>
            </a:br>
            <a:r>
              <a:rPr b="1" lang="en-US" sz="8000" spc="-1" strike="noStrike">
                <a:solidFill>
                  <a:srgbClr val="215968"/>
                </a:solidFill>
                <a:latin typeface="Calibri"/>
              </a:rPr>
              <a:t>in </a:t>
            </a:r>
            <a:br>
              <a:rPr sz="8000"/>
            </a:br>
            <a:r>
              <a:rPr b="1" lang="en-US" sz="8000" spc="-1" strike="noStrike">
                <a:solidFill>
                  <a:srgbClr val="215968"/>
                </a:solidFill>
                <a:latin typeface="Calibri"/>
              </a:rPr>
              <a:t>Healthcare</a:t>
            </a:r>
            <a:endParaRPr b="1" lang="en-US" sz="8000" spc="-1" strike="noStrike">
              <a:solidFill>
                <a:srgbClr val="0066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If you fail to meet minimum scores for English and Math (typically 17 or 18), you will be required to take remedial classes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You must pay tuition for these classes, but the credit will not transfer to other universitie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Professional Development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Even after becoming employed, a person needs to continue to get more education.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In many health care careers,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Continuing Education Units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, or </a:t>
            </a:r>
            <a:r>
              <a:rPr b="1" i="1" lang="en-US" sz="3200" spc="-1" strike="noStrike">
                <a:solidFill>
                  <a:srgbClr val="953735"/>
                </a:solidFill>
                <a:latin typeface="Calibri"/>
              </a:rPr>
              <a:t>CEU’s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, are required to renew licenses or to stay certified or registered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Trend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Because of high costs, smaller facilities use </a:t>
            </a:r>
            <a:r>
              <a:rPr b="1" lang="en-US" sz="3000" spc="-1" strike="noStrike">
                <a:solidFill>
                  <a:srgbClr val="953735"/>
                </a:solidFill>
                <a:latin typeface="Calibri"/>
              </a:rPr>
              <a:t>multi-competent or multi-skilled workers </a:t>
            </a: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who are trained to perform a variety of skills. 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53735"/>
                </a:solidFill>
                <a:latin typeface="Calibri"/>
              </a:rPr>
              <a:t>Entrepreneur</a:t>
            </a: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 is an individual who organizes, manages, and assumes the risk of a business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Physicians, dentists, and optometrists who run their own practices.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A therapist who travels to clients’ homes to deliver services.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A medical billing specialist who gets 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information over the Internet and then 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completes the required forms at home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99"/>
                </a:solidFill>
                <a:latin typeface="Calibri"/>
              </a:rPr>
              <a:t>National Health Care Skill Standards</a:t>
            </a:r>
            <a:endParaRPr b="1" lang="en-US" sz="42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veloped to indicate the knowledge and skills of health care workers primarily at the entry and technical level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ivided into 6 group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Health Care Core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rapeutic/Diagnostic Core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rapeutic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agnostic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Information Services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nvironmental Services Cluster Standard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Calibri"/>
              </a:rPr>
              <a:t>Career Levels</a:t>
            </a:r>
            <a:endParaRPr b="1" lang="en-US" sz="44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Aide or Assistant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: 1 or more years of training on-the-job, in the classroom, or a combination of both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Technician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: 2-year associate’s degree or 3-4 years of on-the-job training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Technologist or Therapist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: 3-4 years of college plus work experience. Usually a bachelor’s degree, and sometimes a master’s degree, is required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Professional: 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4 or more years of college with a bachelor’s or master’s degree or a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doctorate. Often clinical training is also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required.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Dental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ocus on the health of the teeth and soft tissues of the mouth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is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al hygienis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al laboratory technicia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Dental assistan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Diagnostic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erform tests or evaluations that aid in the detection, diagnosis, and treatment of disease, injury, or other physical conditio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Registered Diagnostic Vascular Technician (RDV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lectrograph (EKG) Technician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Laboratory Technologist (M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Phlebotomis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Radiologic Technologist AAR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Emergency Medical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emergency, prehospital care to victims of accidents, injuries, and sudden illnesse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mergency Medical Technician (EM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(EMT-1) (EMT-2) (EMT-3)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Paramedic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Health Information and Communication Services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Work to maintain complete and accurate patient record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Records Administrato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Transcriptionis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Unit Secretary / Unit Coordinato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Illustrato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edical Libraria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Hospital / Health Care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Facility Services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Operate the support departments such as: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dministratio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Business office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dmissions office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Central/sterile supply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Housekeeping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Objectiv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tudents will: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Conduct a personality inventory.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Describe the role of professional organization in a career major area. 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Explore a potential health science career path in at least one of the following health care services:  Diagnostic, Therapeutic, Informational, and Environmental.  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Calibri"/>
              </a:rPr>
              <a:t>Identify and explore the two career                      majors in the health cluster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Medical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Broad category that includes physicians and other individuals under the supervision of physicia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hysicians (MD) (DO) (DPM) (DC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hysicians assistants (PA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Medical assistants (MA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Mental and Social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ocus on helping people with mental or emotional disorders or those who are developmentally delayed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sychiatrist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sychologist PsyD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sychiatric / Mental Health Technicia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ocial Workers / Sociologis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Mortuary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services that involve preparation of the body, performance of a ceremony that honors the deceased and meets the spiritual needs of the living, as well as cremation and burial of the remai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Funeral director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mbalmer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ortuary assistant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Nursing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care as directed by physicians that focuses on the mental, emotional, and physical needs of patient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Registered Nurses (RN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Licensed Practical Nurse (LPN)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Nurse Assistant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atient Care Technicia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Surgical Technicia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Nutrition &amp; Dietary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mote wellness and optimum health through the knowledge of nutritio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etitians (RD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etetic Technician (D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Dietetic Assistan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Therapeutic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Provide care for patients through a variety of treatments for injuries, physical, mental, and emotional disabilities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Occupational Therapists &amp; Assistan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Physical Therapists &amp; Assistan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Pharmac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Massage Therap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Respiratory Therap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Speech-Language Therapists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15968"/>
                </a:solidFill>
                <a:latin typeface="Calibri"/>
              </a:rPr>
              <a:t>Athletic Trainer</a:t>
            </a:r>
            <a:endParaRPr b="1" lang="en-US" sz="26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Veterinary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care for all types of animal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Veterinarians (DVM or VMD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Veterinary Technician (V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Veterinary Assistant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Vision Service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vide care to prevent and treat vision disorder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ologist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tometrists (DO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ic Medical Technologist (OM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ic Technicians (OT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tician (OA)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Ophthalmic Laboratory Technicia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Organization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Provide a place for people who share the same interests to meet and exchange information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Allow members to grow in their leadership abilities, citizenship skills, and confidence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Strengthen members’ thinking skills, such as creativity, decision-making, and problem-solving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Support networking opportunities 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that can lead to job contacts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Professional Organizations 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A group that exists to further a certain career.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Their goal is to protect the interest of the public as well as those of the professional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MA – American Medical Associatio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KNA – Kentucky Nurses Association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hoosing a Career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Choosing a career involves making some complex decisions.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It is important to focus on matching your interests, abilities, and needs with a career that fits them well.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You might start by asking yourself questions such as: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What am I really like?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What are my strengths / weaknesses?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What might I want to be doing in one year?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Five years? Ten years?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Civic &amp; Community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Organizations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Exist to enhance the well-being of all people in an area through volunteer service actions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Chamber of Commerce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Lion’s Club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Rotary Club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Student Organization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Aim to enhance the student’s education in both its quality and impact. 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Strive to help the student build knowledge, skills, and attitudes that will lead to success in the workplace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Often sponsor special competitions with the goal to encourage pride and excellence in work.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15968"/>
                </a:solidFill>
                <a:latin typeface="Calibri"/>
              </a:rPr>
              <a:t>Often award scholarships to make sure that deserving students can get the further training they need</a:t>
            </a:r>
            <a:endParaRPr b="1" lang="en-US" sz="30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Health Occupation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Students of America</a:t>
            </a: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Began in 1976 - is the only national student organization that exclusively serves students in their pursuit of a career in the health professions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he Hands of HOSA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old the Health of Tomorrow”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  <p:pic>
        <p:nvPicPr>
          <p:cNvPr id="111" name="Picture 3" descr="hosa_logo_2_sm.gif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Health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Workers in this field often get a high level of personal satisfaction from helping people in need. 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15968"/>
                </a:solidFill>
                <a:latin typeface="Calibri"/>
              </a:rPr>
              <a:t>Health care workers are in high demand, and the supply is currently lower than desired. As a result:</a:t>
            </a:r>
            <a:endParaRPr b="1" lang="en-US" sz="27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any jobs are available.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any jobs offer high pay.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Scheduling is flexible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Job security is high. 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Competition is low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Health Career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5968"/>
                </a:solidFill>
                <a:latin typeface="Calibri"/>
              </a:rPr>
              <a:t>When researching health careers it is important to understand the:</a:t>
            </a:r>
            <a:endParaRPr b="1" lang="en-US" sz="36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Duties of the job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Educational requirements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Job outlook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Average yearly income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Ability to progress in the career level to higher paying positions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Pros and cons of the career</a:t>
            </a: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Education Level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Education may involve different levels of study. The level of education needed varies for each health care career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alibri"/>
              </a:rPr>
              <a:t>Health occupations education (HOE) programs </a:t>
            </a: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can prepare a person for entry-level work after graduation or even while still in school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An </a:t>
            </a:r>
            <a:r>
              <a:rPr b="1" lang="en-US" sz="2200" spc="-1" strike="noStrike">
                <a:solidFill>
                  <a:srgbClr val="953735"/>
                </a:solidFill>
                <a:latin typeface="Calibri"/>
              </a:rPr>
              <a:t>associate’s degree </a:t>
            </a: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involves two years of training for a specific career and is usually offered at a community college or a technical or career school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Other higher education degrees are typically offered at a college or university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bachelor’s degree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usually requires four or more years of study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master’s degree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, one or more years beyond a 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bachelor’s degree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953735"/>
                </a:solidFill>
                <a:latin typeface="Calibri"/>
              </a:rPr>
              <a:t>doctorate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, two to six years beyond a bachelor’s 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or master’s degree. </a:t>
            </a: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 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Calibri"/>
              </a:rPr>
              <a:t>Credentials and Accreditation</a:t>
            </a:r>
            <a:br>
              <a:rPr sz="4300"/>
            </a:br>
            <a:endParaRPr b="1" lang="en-US" sz="43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Credentials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 ensure that workers have the vital skills and are competent, which helps to protect patients. 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Accreditation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 certifies that a program of study meets or exceeds a minimum standard of quality.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Types of Credential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53735"/>
                </a:solidFill>
                <a:latin typeface="Calibri"/>
              </a:rPr>
              <a:t>Certification</a:t>
            </a: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 states that the worker has fulfilled the education and performance standards and is qualified to do the job.</a:t>
            </a:r>
            <a:endParaRPr b="1" lang="en-US" sz="25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With </a:t>
            </a:r>
            <a:r>
              <a:rPr b="1" lang="en-US" sz="2500" spc="-1" strike="noStrike">
                <a:solidFill>
                  <a:srgbClr val="953735"/>
                </a:solidFill>
                <a:latin typeface="Calibri"/>
              </a:rPr>
              <a:t>registration, </a:t>
            </a: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the names of people who are qualified to work in a career are kept on an official list. The list is called a “registry.” </a:t>
            </a:r>
            <a:endParaRPr b="1" lang="en-US" sz="25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53735"/>
                </a:solidFill>
                <a:latin typeface="Calibri"/>
              </a:rPr>
              <a:t>Licensure</a:t>
            </a:r>
            <a:r>
              <a:rPr b="1" lang="en-US" sz="2500" spc="-1" strike="noStrike">
                <a:solidFill>
                  <a:srgbClr val="215968"/>
                </a:solidFill>
                <a:latin typeface="Calibri"/>
              </a:rPr>
              <a:t> is established by law and is mandatory. </a:t>
            </a:r>
            <a:endParaRPr b="1" lang="en-US" sz="25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A government agency authorizes people to work in select careers. 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Requirements may vary from state-to-state. 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Usually involves passing a state board test 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215968"/>
                </a:solidFill>
                <a:latin typeface="Calibri"/>
              </a:rPr>
              <a:t>and maintaining certain standards.</a:t>
            </a: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Calibri"/>
              </a:rPr>
              <a:t>College Requirements</a:t>
            </a:r>
            <a:endParaRPr b="1" lang="en-US" sz="4800" spc="-1" strike="noStrike">
              <a:solidFill>
                <a:srgbClr val="0066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Minimum ACT scores vary by institution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Most health care programs require prerequisites before one can be accepted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This typically includes:</a:t>
            </a:r>
            <a:endParaRPr b="1" lang="en-US" sz="32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English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--Chemistry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Math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--Computers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Anatomy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--Psychology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Speech</a:t>
            </a: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1596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3:43:18Z</dcterms:created>
  <dc:creator>AES</dc:creator>
  <dc:description/>
  <dc:language>en-US</dc:language>
  <cp:lastModifiedBy>Krista</cp:lastModifiedBy>
  <dcterms:modified xsi:type="dcterms:W3CDTF">2011-09-08T05:10:39Z</dcterms:modified>
  <cp:revision>31</cp:revision>
  <dc:subject/>
  <dc:title>Slide 1</dc:title>
</cp:coreProperties>
</file>